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F0EA-2505-4423-B7F7-1AB2B3CA4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nist.gov/oles/forensics/biology_dna.cf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infovisual.info/01/021_e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rugline.org/medic/term/meiotic-nondisjunctio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ajp.psychiatryonline.org/Mobile/article.aspx?articleid=1754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logyjunction.com/karyotype_lab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arveendulai.wikispaces.com/Gen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orms.zoology.wisc.edu/zooweb/Phelps/karyotyp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of information: http://www.marchofdimes.com/baby/birthdefects_chromosomal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orms.zoology.wisc.edu/zooweb/Phelps/karyotyp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orms.zoology.wisc.edu/zooweb/Phelps/karyotyp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of information: http://www.marchofdimes.com/baby/birthdefects_chromosomal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orms.zoology.wisc.edu/zooweb/Phelps/karyotyp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orms.zoology.wisc.edu/zooweb/Phelps/karyotyp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orms.zoology.wisc.edu/zooweb/Phelps/karyotyp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orms.zoology.wisc.edu/zooweb/Phelps/karyotyp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3A6C-40CA-4ACF-BDD1-1A25DFB72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E384-D176-4C8A-964F-8C6A2799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10DF-1224-4729-A07E-A27E2AC61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D6CD-4157-4E05-9D77-7AF1A41CD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A177-5A3F-498E-ADE9-F284ACC2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60AE-A1D8-44E2-9BB6-2CDA00EE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6590-0CF7-40E6-A064-0D669FEC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8D7B-60A3-4A43-9829-99AF3BB2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9FBD-E11B-4CB0-BFDA-4F372AE7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BC33-56EA-4FE1-BF54-543C3968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39CA-E743-4FE6-9E52-1B855EA4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3842-F052-405C-8A1E-B895A0E3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A5FA2-166A-496D-8B7E-1210161A5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duction to Gen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tics Ter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i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disjunction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atic cells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plo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ich mean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divide very quick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y have two sets of chromos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ve one set of chromos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is tr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tes are hapl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tes are dipl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tes are reproductive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of the above are 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is tr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tes are hapl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tes are dipl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tes are reproductive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wo of the above are 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is tr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ologous chromosom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re similar in size and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are found in 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re found in somatic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separate during Anaphase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Two of the above are 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is tr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ologous chromosom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re similar in size and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are found in 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re found in somatic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separate during Anaphase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. Two of the above are 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let’s look at meiosis agai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158920" y="609480"/>
            <a:ext cx="4826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kinds of errors can happen during meios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disj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happen dur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phase 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dur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phase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in gametes can hav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o man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o fe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lso happen in mitosis, but this is less harmful because it isn’t passed on to the next 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85800" y="787320"/>
            <a:ext cx="77724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review some 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al Disor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caused by the wrong number of chromosome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nges (mutations) in the genetic information carried on chrom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48320" y="2567160"/>
            <a:ext cx="380988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ryotype - male or fema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ryotype - male or fema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784520" y="1981080"/>
            <a:ext cx="5574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wn syndrome (trisomy 2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wn Synd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s about 1 in 800 bab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ying degrees of intellectual dis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 facial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have heart defects and other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somy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somy 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somy 13 &amp; Trisomy 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in 16000 babies are born with   trisomy 13 and 1 in 5000 are born    with trisomy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e intellectual dis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hysical birth de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ffected babies die before their first birth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inefelter synd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inefelter synd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s about 1 in 500-1000 bo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have normal intelligence but many have learning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dults they produce less than normal amounts of testosterone and are infer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body cells are also known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omatic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er synd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er synd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s 1 in 2500 gir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infertile and do not undergo normal puberty changes unless they are treated with 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ve health problems including heart and kidney de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intelligence but some have learning difficul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ple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ple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s 1 in 1000 fe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no physical birth defects, experience normal puberty and are fer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have normal intelligence but many have learning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Y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Y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s 1 in 1000 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taller than average, have normal sexual development and are fer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have normal intelligence, though some have learning, behavioral and speech/language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body cells are also known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. somatic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and egg cell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omatic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and egg cell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omatic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. 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hum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atic cel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kin cells, bone cells, nerve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sperm cells, egg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human somatic cell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. skin cells, bone cells, nerve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sperm cells, egg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atic cells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plo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ich mean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divide very quick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ve two sets of     chromos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ve one set of chromos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12:19:47Z</dcterms:created>
  <dc:creator>rubina khan</dc:creator>
  <dc:description/>
  <dc:language>en-US</dc:language>
  <cp:lastModifiedBy>rubina khan</cp:lastModifiedBy>
  <dcterms:modified xsi:type="dcterms:W3CDTF">2013-01-09T03:10:56Z</dcterms:modified>
  <cp:revision>156</cp:revision>
  <dc:subject/>
  <dc:title>Genetic Processes</dc:title>
</cp:coreProperties>
</file>